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89E4F-D5E4-4062-9958-F17D59702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F4B42-8BB0-44F3-A24F-5C3445045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2905A-531A-482A-8B49-7E8BC4743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DC051-CCDE-43FD-B429-1D8E1B34C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B3578-AC9F-4287-99DD-CEFBCA57E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481F0-7FB0-48D7-A8F0-EDCFE1AD6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28C3E-0FDD-4F7F-9A36-DB3973C7E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056FB-D582-4F53-97D0-A9EF4EAF3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BC118-BB32-42FF-83E4-3A6F5DFC3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0AE81-BFC3-414C-8F43-E3B07B257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8FA52-93F7-473B-B222-758E4A6EA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70B46-5D7D-4846-B2DE-04BBDA310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6B84C-B5B3-46DB-9480-69386804E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28B53-843C-4215-8BCA-016FE5B84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5C1F3-BF78-4CC0-AD58-685573659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BDA97-EB52-469F-809D-6D824F22E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FCDD6-26AA-4010-AE6A-B40E66562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01882-94FE-4225-9D86-402234FE8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8585F-B113-47D9-8658-36632E92B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87819-F5E2-4F40-87B6-AE802287A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4018B-E96E-491E-BB8D-62056EA24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5C8E5-E001-4687-BE99-FD952C1B0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90D5E-83CC-4DED-82D2-CCE5AFF07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E9BC8-50E0-4443-9090-1EC6B1993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E5E98-56F0-4E26-91D2-B19C3798C4A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9A64C-F483-4B4B-A0EB-C85C1C3CE4E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Network Securit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cip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 plain text in fixed block sizes producing block of cipher text of equal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ryption standard (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ple DES (T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Encryption 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4 bit plain text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6 bi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8271"/>
          <a:stretch/>
        </p:blipFill>
        <p:spPr>
          <a:xfrm>
            <a:off x="333864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Sing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669"/>
          <a:stretch/>
        </p:blipFill>
        <p:spPr>
          <a:xfrm>
            <a:off x="990720" y="1371600"/>
            <a:ext cx="7391160" cy="54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ength of 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lared insecure in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nic Frontier Found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Cracker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now worth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s include T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iple DE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SI X9.17 (198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rporated in DEA standard 199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3 keys and 3 executions of DEA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key length 168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Encryption De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883"/>
          <a:stretch/>
        </p:blipFill>
        <p:spPr>
          <a:xfrm>
            <a:off x="609480" y="1447920"/>
            <a:ext cx="7772400" cy="51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k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unication link equipped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ffic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level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lots of encryption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ust be decrypted at each switch to read address (virtual circuit numb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vulnerable a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icularly on public switch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d to End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done at end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encrypted form crosses network unalt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shares key with source to decry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can only encryp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wise switching nodes could not read header or route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ttern not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oth link and end to 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selected by A and delivered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party selects key and delivers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encrypt and transmit new key from A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transmit new key from third party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4957"/>
          <a:stretch/>
        </p:blipFill>
        <p:spPr>
          <a:xfrm>
            <a:off x="533520" y="1600200"/>
            <a:ext cx="80010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uration of one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royed at end of s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istribution of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distribution ce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rmines which systems may communic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one session key for that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nt end process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s end to end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tains keys fo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Pad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e cipher text continuous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lain text to encode, send random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 traffic analysis im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against active atta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lsification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vesdrop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authentic if it is genuine and comes from the alleged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allows receiver to verify that message is authen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is from authentic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ime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Us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s sender and receiver are only entities that know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nclud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tam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Without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tag generated and appended to eac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not encryp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fo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s broadcas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ve one destination responsible for authent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ide heavily loa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cryption adds to worklo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authenticate random messa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s authenticated without encryption can be executed without de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te authentication code based on shared key and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key shared between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nly sender and receiver know key and code match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is from alleged sen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ssage has sequence number, receiver assured of proper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Using 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21727"/>
          <a:stretch/>
        </p:blipFill>
        <p:spPr>
          <a:xfrm>
            <a:off x="533520" y="1681200"/>
            <a:ext cx="8001000" cy="47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Way Hash Fun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variable size message and produces fixed size tag (message dig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 of authentication without en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optimized to larg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covered by pat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subject to export controls (from US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1371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9141"/>
          <a:stretch/>
        </p:blipFill>
        <p:spPr>
          <a:xfrm>
            <a:off x="2746440" y="0"/>
            <a:ext cx="6397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ss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vesdropping on transmis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obtain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ease of message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sider learns content of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 monitoring frequency and length of messages, even encrypted, nature of communication may be gues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icult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prev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e Hash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sh function must have following proper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applied to any size data b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 fixed length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comp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rever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find two message that give the same ha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HA-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Hash Algorithm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put message less than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4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ed in 512 bit blo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160 bit dig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mathematical algorith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separate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gred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c and private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685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4459"/>
          <a:stretch/>
        </p:blipFill>
        <p:spPr>
          <a:xfrm>
            <a:off x="4095720" y="19080"/>
            <a:ext cx="5048280" cy="65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key made 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kept 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e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easible to determine decryption key given encryption key and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key can be used for encryption, the other for de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e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generates pair of ke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ces one key in public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send a message to user, encrypt using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ecrypts using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encrypts message with their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decrypt using sneders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authenticates sender, who is only person who has the matching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give privac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 key is publ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0698"/>
          <a:stretch/>
        </p:blipFill>
        <p:spPr>
          <a:xfrm>
            <a:off x="4334040" y="0"/>
            <a:ext cx="480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31399"/>
          <a:stretch/>
        </p:blipFill>
        <p:spPr>
          <a:xfrm>
            <a:off x="533520" y="2200320"/>
            <a:ext cx="815328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4 and IPv6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branch office connectivity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remote access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net and intranet connectiv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electronic commerce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t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que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tending to be a different 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ication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nial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may lead to deterr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prev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Sec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401,2402,2406,240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Assoc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way relationship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o way, two associations are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SA identification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arameter ind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rotocol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cou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counter over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ti-reply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H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fetime of this assoc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 protoco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, transport or wild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and Tunnel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upper layer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s to payload of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between h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ne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re packet treated as payload for outer IP “packe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outers examine inner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have different source and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mplemented at firew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24862"/>
          <a:stretch/>
        </p:blipFill>
        <p:spPr>
          <a:xfrm>
            <a:off x="457200" y="1762200"/>
            <a:ext cx="8077320" cy="32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ng Security Payloa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P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2787"/>
          <a:stretch/>
        </p:blipFill>
        <p:spPr>
          <a:xfrm>
            <a:off x="1371600" y="1371600"/>
            <a:ext cx="64864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ope of ES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1479"/>
          <a:stretch/>
        </p:blipFill>
        <p:spPr>
          <a:xfrm>
            <a:off x="990720" y="1371600"/>
            <a:ext cx="62481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AKMP/Oakl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akley key determination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net security association and key management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Thre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8496"/>
          <a:stretch/>
        </p:blipFill>
        <p:spPr>
          <a:xfrm>
            <a:off x="457200" y="2104920"/>
            <a:ext cx="822960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ntional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28281"/>
          <a:stretch/>
        </p:blipFill>
        <p:spPr>
          <a:xfrm>
            <a:off x="533520" y="2057400"/>
            <a:ext cx="807696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gredi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re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ong 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known, should not be able to decrypt or work out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a number of cipher texts are available together with plain texts of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and receiver must obtain secret key secur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key is known, all communication using this key is read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ack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ypt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y on nature of algorithm plus some knowledge of general characteristics of 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mpt to deduce plain text or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ute fo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y every possible key until plain text is achie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8T17:39:45Z</dcterms:created>
  <dc:creator>Adrian &amp; Wendy</dc:creator>
  <dc:description/>
  <dc:language>en-US</dc:language>
  <cp:lastModifiedBy>Adrian J Pullin</cp:lastModifiedBy>
  <dcterms:modified xsi:type="dcterms:W3CDTF">1999-11-10T15:42:13Z</dcterms:modified>
  <cp:revision>42</cp:revision>
  <dc:subject/>
  <dc:title>William Stallings Data and Computer Communications</dc:title>
</cp:coreProperties>
</file>